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926-B09E-4500-89B5-C12DA0DB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43A-62CA-4087-8B19-A2ACB5DD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B18DD-E417-4542-806B-E52EFD81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28F6A-1417-4EAE-9D5B-D69B5BB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A7AC-54DF-4493-B9F3-52A06FD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EFDE7-9365-46FF-988A-B9CCB218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F8A85-0F50-40B0-9CEF-3FF424B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0DAE5-2ADC-4E4B-BB52-D5A99F6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E72E9-6A38-463E-94EF-2455354D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3757F-7ABC-4E3D-A492-CB7AFD67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816A9-51F5-41B9-98A8-FA1EDD4B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DD60C-731D-4524-A953-7FC6F517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6E1-3403-4BBE-8AE1-BB6B0A7B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292AF-F6FB-438E-9B12-BB7D1195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DB892-1D1F-48FC-A8C8-40D53BFE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C828-5893-4706-8801-EF7C7410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20336-69B3-4F3F-83F1-C59EC453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FF9D7-5C4F-4CCF-93F3-2F420592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AAE92-6115-4965-B9B6-A6A8BDD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CF2E-E00F-41C8-971E-E82623C4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B597A-8EC1-4E89-B90A-0350B47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5B10F-3687-41FC-A68F-5329631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D463F-D1CC-4628-8A40-01DDEEFC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851-CBA5-4244-B660-5777B7C7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D35A4-ACC7-4E7B-949D-0098698F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C401-8223-4F54-8007-4CF7E481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7B0EA-31E0-4F0B-AE62-E8A7A43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451B7-5506-463B-B326-AE94C1A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093F-F879-49A9-AE1B-5F9E177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3C63-7434-4608-B52E-6105D7C1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C1CFD-E643-421C-9708-60777F6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8A36A-7DC6-4EE4-AFBF-DA2110C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616CA-A0FD-4CFF-8FA2-B245785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05B97-B028-48E1-8568-EC891D7A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5642-E5B8-4645-B488-0C78722B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C781D-65AC-42EE-A4E9-E8854DD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F42F3-F70B-47A9-AAAB-1CBD9012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3D07-28E3-484D-81B7-9CFAB41A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CEEB3-301D-43F8-9FDC-5AE89953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B3B4F-A666-49F9-8F5B-B1600625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2DC2E-C5DE-4825-8700-8C85AADD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DB93-43CC-4C56-93A4-403B841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B89E1-1F1D-4C55-B36E-FC8856A9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7E9DD-9694-4963-8D18-E848F57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5F934-7615-4CBC-8F7D-199F46F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B9E-29CD-4033-BC5E-F19D7F6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6F6A3-DCC5-4E8A-8969-869166C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E9C74-4810-4984-AD43-49EA7B7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21E15-50D2-4D14-AF93-D8E8947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D1D3-E462-480D-8842-EB3DD9A2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52D5F-B28A-4A15-8319-119F3D9A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DB5C4-61B4-4AFF-BF88-FD8C5214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43F9B-0D1F-4229-AF07-CD75972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C7BC7-B7FA-4A33-9D48-33794093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EC0A3-791C-4686-B8DF-46066071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3D902-41F4-4397-9FB0-791DF0C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8D9A-FB18-4608-B111-963F278C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FB885-FFDC-48FF-B023-0E21950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175E1-AB49-4E3D-80D1-4555815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862FB-ED9A-476C-997A-F0DCE81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DF7BA-BDC2-4735-B2B1-1DBC2E3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62053-64AB-4C78-826F-0FD3DF45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35AF2-9A24-461C-8DCF-707BEBFB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794DA-B264-41F1-BDEA-D810F676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88C50-E3A0-414E-8EDB-6D666C73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76B2F-E210-4F48-820E-AAB6BE4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4682C-3DFB-4208-9632-1B7A8C7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051-42F1-4022-A0DB-E198966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E750A-0FF0-4D25-B231-E1A7DE0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615E6-5751-4323-8F51-6D88B46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F6B4A-5505-4F32-99DF-1ECF9C50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20DBC-FE9C-4322-9BC6-83AFA95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7E61F-A8C8-492D-855B-0C3E92A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38ED1-1706-4862-8A0A-D2A04DC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36C3C-79C5-4727-BAF4-7DE2E04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B6A42-F01A-46F7-B5A2-1502826E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F034F-0A15-49DF-8E4A-B646D91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2FF3D-E863-4B8F-BE20-37D61A6F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B8C-6CCD-4FD0-8ABB-4276376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FF936-5549-4B5E-A30B-32A75A56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2BFFC-2603-4D71-9CE4-D45803D9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95CCC-60C1-4342-B252-1548878C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69338-D002-427F-B086-6E5C97A3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F40F2-1242-471E-A0EE-413664D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39586-2AD2-40D5-B269-B7C5BBD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1FBF8-8ECC-4600-BD2D-B06E03E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8E2F4-89C3-4AD9-9A68-01923BD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DAF8F-9655-40A2-B7DD-E011349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FF805-2FA2-42BC-9C21-AA4A7836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9964-6AC7-455F-8CF1-0956FE5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21C37-A01C-4703-BAA0-4657E296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1BB09-529B-416A-A97E-5997CF06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8EBFA-0EEC-480D-915C-CEFF225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6563E-C432-43C2-A51F-936391C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2BB09-2673-4100-B61C-0E083FC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40140-7E63-4128-947F-2609EB3E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D4782-A694-4613-A17A-1E20861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04C7E-3729-43B8-9FDC-4FEF20F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2109D-0BE6-41AE-B78C-E220319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C04C9-6913-4499-BA95-4E3D0D0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73AF-39ED-4659-B7B8-61F3B32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D4985-A1C9-4686-BC9F-F59C462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82DDE-DE28-4606-B8C9-E58DFFB5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5AEC3-6D35-47DF-8317-7719B633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82B3D-8230-4D47-BCDD-D63F8C10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34C70-24F0-4E89-80BD-A4720FA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D5A52-7E0E-4B61-B883-124AC08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E8617-613A-4E31-AA86-4825A9D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22BCB-97C9-4B40-A558-995C434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69ACB-3273-49B8-888C-0AF5F9C0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2C3BC-3F78-4B9A-8AC7-EAB0239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E43-3F46-4F93-8E5B-C072DC71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364-3C27-4CC5-879E-5817181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130E3-ED12-4E31-8B62-CD25305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F88D1-0EC9-4C49-9F18-E016C7E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C38B6-AB4A-48DB-8879-0E1D5F3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71FA7-D9E6-4C1E-964B-466125F5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24C4F-E845-4688-9FC1-62CF75AE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B560A-1D99-4B14-AC7C-18838556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6EFDF-4572-458B-978D-BB03D45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40E28-99AB-407A-AE82-B601D63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4D7F3-9066-4B46-AA55-85007EFE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2779E-E3D4-41F9-9F66-1CE66755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A1F7-33CE-4FD2-BB04-C08B1EB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9E170-5643-47E4-9691-03448FCF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D6A30-F089-4070-B97D-37F4DD3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A0B34-F03F-4044-A3BD-3652A5E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5F842-6962-4A6D-B11C-2D28B18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D80DC-D11D-48E5-BEFC-1912990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0154D-6941-4525-B2EE-B6B76EC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C0B34-92B3-4FE2-846B-BA87DA4A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BB290-CD41-4B24-B807-9013D0B3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93789-5DB9-4FCB-A580-84053554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6A63E-AA84-48AC-92D2-40B0211D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060B-1928-4B77-B7A4-85CC4751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0427B5-3D6E-4904-B58D-BDDFEE8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088F3-686D-4F11-B18A-A85C600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7E798-C534-4674-8F9B-BE8A923F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B2D21-F97B-48B5-BC3E-6527CCC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EB3BC-6156-49FE-A2B3-D926B45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A7E00-DCEA-46BD-8D6C-97FF0F7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BAEE5-B457-4FE7-B8C9-EED51B9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906F8-9BDF-45D4-82F2-FFFD627E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9236F-F39D-4154-AFC4-8CE1B7C9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506E8-4153-4CCE-9456-8FF1C00D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3ED-F19F-4D96-A772-CF8B953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F13F6-28B3-46F3-820C-9D76EB2B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876EF-D517-4EB6-A87F-B8272EF5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5B035-F2A4-4A8A-9C3F-BDC10F4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7E30F-FFFC-4CE8-9758-36FCC41F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BC046-4DEA-438A-AF27-083219B2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11AA1-DBF1-44E9-8344-37B17CF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6C50D-DD29-40D5-861B-2E31A43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3941D-A8F5-481B-9C2F-5C4B11F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48316-6A3F-477C-B1AD-47438BF3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1B98F-6B27-45E9-93A1-8CD7D206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4562-2372-420C-87FF-6053992F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4E6B2-03ED-4ABF-BEA1-0E35A4BC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EE9DC-57D9-4ECF-A8C0-37739C00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8F2BB-FD4B-4391-B9DF-EE7C00C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7E6CB-C2BE-4645-BB73-D38ED34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171E9-3002-470E-95F6-F84AD15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B4D4A-43D4-4048-ACE6-D1EF9D71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E202C-532F-4499-9479-25E03D1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0267C-099F-429B-A238-F222942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FE571-9A5F-4F88-A172-9D0E08F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451FF-C1F2-4B8B-BFF3-58412C0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DCB7-2A51-4687-973B-8283F292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17DC9-EF15-4359-874D-3E54E6B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FF8AF-61D8-41A2-8ABC-9A92D049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82FAF-6AB2-4964-AD17-FA594F07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9BC7-6CEC-4456-A2CB-429DCC69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0A61-1DD3-48EF-998A-C031D37F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AAF7-2078-4854-8AFC-B16F18B5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6415-B8FA-49BF-B0F6-FF88C7B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249-CDB2-4609-894F-39797CC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9B17-8A7E-44E4-93B2-D788656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877D-0959-4732-90F6-C409B2D7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6B90-5891-4B2D-8A5E-8AF6896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A1A2-21C4-4AEC-8977-49BE97AD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F34F-4B8B-489F-8885-028E64D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BCEF-2BE5-47CA-B8D6-018C147C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D2F5-2771-4FAD-8391-EADA244D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9ABD-47D9-4D03-8FA4-43641F85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CB54-D172-4B4E-960A-994DB28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5055-DB2E-4F7C-887C-1A205CFD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5A1-4A64-4E65-B2EA-56EE5D80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67FA-03AC-4886-A887-3174974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FB7D-534B-4DB6-884C-9DB87C13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F5CA-BBB2-4C4F-B529-615B19B4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7D98-DEBA-412D-A559-E776976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FCF4-DC82-43BF-B1A6-43EB7A16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00E6-918E-4769-BA7E-792B5E6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2568-4A74-4B30-9CE5-EEB85F6C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05A3-7690-42EE-86A9-7ADE2A9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FD6D-E069-4D19-A36F-214CB1F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B17A-AC10-4CEC-8CCF-75E95B18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2F3-B979-4A5E-B36C-26FAA76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20BF-014E-4211-A81F-DD690A5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4E64-394C-4961-B572-6139CC28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20F5-5741-466A-9725-3FB2A7E0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4DF0-3BC6-49D8-977E-EBA99758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67646-2BBF-4F86-98F6-15D37F1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E79A-FA04-4A05-963B-B9CF821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2A45-59A5-49F4-B189-FA910FF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B05C-CB87-42DA-A859-B210018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FCDB-DE47-48C0-8563-231E16D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B3DE-1A51-4606-8E7F-904DCE21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8AC-1EE6-44A9-8A0A-993555F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C1EC-78B1-4592-940B-3751C928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0F83-D24B-4427-84AD-E5582FF9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4603-2BFB-43A9-A2A4-500C9A1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66EF-14F8-4062-8188-7D67E303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C5BFC-E96F-4CC2-ACBA-FFBEC37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7C27-E5E1-4D21-BA45-2E40E657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E321-2DF5-40C0-BD37-D551EC2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E218-B8D0-4FD0-9539-791B670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9E6E-0CAC-49F6-A94B-F2D0ED4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610F-0A2F-48CD-8A11-1842F64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87C-BC2C-42CD-BC42-4BE7D5A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CEF7-DE89-46F7-AFC4-CAC12D1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B51F-7F81-4945-9731-A0B31988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23C9-F125-456A-AD7C-E3EBBE21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EB89-24AE-4DF3-AB80-0DB2406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654F-5A2D-4C20-B1E1-B6B00FE9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E569-5126-4D24-934E-21E7046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FA0B-441B-4332-9CE5-744E8749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35EE-D8CD-46F8-AEB8-F1E0A88C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378B-8859-42AF-9C62-08F1599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073F-2F2C-4AC2-B477-17AD641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AFA-D87C-4525-907A-97FD44C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5D4BB-9332-40C7-9844-00B2E1F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E5A1-93F7-4B0A-B58A-4F1B8CD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0417D-FC9D-44D8-BB82-1AF64EE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20B2E-1F39-4F7B-A646-F853FF5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C81E-4616-4AB3-BEA2-736AD4D0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0C3CE-A898-4C2F-9566-0D6AF287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831F-3A34-4EFA-817E-5F89D96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CA018-CADC-4F73-AE0F-C79D5D7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04C6-3766-42FD-B2B0-34BB6DD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8CA41-C4F8-4FA0-AEB7-3E0C3E9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33E-FF74-4D4D-A8A1-B688765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F113-9F99-4F53-ADF1-4F6B400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6028-20D0-4AF9-B4CF-FFE55F1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B475-7D6A-4DF4-B303-C8D3B0A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4F5E-A10A-4D06-878B-6D389CE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53A6-301F-4990-94FE-B0EDB15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1C951-534C-4FE9-9138-EB454835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5D3B3-9831-4042-9855-F54983C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71F94-F340-4138-98B3-6DB54B02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7B5F1-1110-4626-8A0D-A278981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6B342-43E6-4EBC-BC5A-46713EF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F1EA-3D4E-4D45-85CF-A61F34E6F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414-1905-4BC3-9154-DB70076A2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2AE-0A24-4349-95FC-4FE20F993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246-FD94-4FF8-8F96-B49159106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5E6-E1B7-424D-9F9E-9DA980FC2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AA8-BE58-41F0-84BC-BC0316BEB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1DF7-05E2-491C-B186-1CE09A8AF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1F8-C954-4CD3-9FCC-8E6CB082AF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D48-E162-490A-B2D0-AE3C7D538C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E0B7-B2A4-4E9E-BE59-B5D8EAD52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811-3EB4-4F96-AD2D-B9CEA3161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7B0F-4DF1-47FE-88D2-B11AA14D0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E70-6C3C-400A-815B-57BDD8D8C3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C4B5-A464-4F09-9E79-1CB7E5643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3D19-B51F-4017-A1E0-4062B77CD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47C1-07C2-4412-ADD9-64FEB55F6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DE3-2B2E-41FB-8B9E-63870AEEE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271B-EB99-48B4-9AF4-69A139ABB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F9B-0DFA-456F-B2E7-68720595D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F337-1B21-4D3F-ADEC-B95C1340D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39FF-1143-420B-95CA-90671FB4C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D32-892D-492E-B5CF-B17B134ED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1DF6-B493-4F92-9609-B21F169A3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CE5-6871-459A-8CF4-453D25ADC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9D84-69FC-46BD-8A84-D375CFB7D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3AC-A906-4FB4-89E2-536EE2FB3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1466-38ED-4EAE-922F-16D1F0F25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DFA-FFFF-4474-82D2-3876CC7F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0E39-A751-4556-9950-AE32CA43A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BB2-2DAB-44A4-88DF-ED51B3603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F45-585E-43F5-A323-D9088C497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7F9-B8DB-436E-A44D-499E1F7DD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A8F-0C18-407D-8EAE-A94365F75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B88-19BE-4208-9297-64610BDEE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24E-66AF-411C-8229-44AE69624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D96E-FC3E-47BD-8C6C-E4F9A1622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DFC-5213-4E0F-8911-01E756FBF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2F9-653D-4483-9953-A984C25F8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EE7A-44BA-45BB-9CC4-6FC83AC76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2C0C-81E8-4D08-9A63-419803EA7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57240" y="3014640"/>
            <a:ext cx="7229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38040" y="766800"/>
            <a:ext cx="8467920" cy="6019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4000680" y="325440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6357960" y="416412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4857840" y="503244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7858080" y="5908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714240" y="6350040"/>
            <a:ext cx="8575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347760" y="1057320"/>
            <a:ext cx="8448480" cy="5086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6500880" y="268452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3193920" y="3541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4"/>
          <a:stretch/>
        </p:blipFill>
        <p:spPr>
          <a:xfrm>
            <a:off x="3786120" y="39895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5"/>
          <a:stretch/>
        </p:blipFill>
        <p:spPr>
          <a:xfrm>
            <a:off x="6858000" y="485784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6"/>
          <a:stretch/>
        </p:blipFill>
        <p:spPr>
          <a:xfrm>
            <a:off x="3429000" y="5318280"/>
            <a:ext cx="1428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33360" y="785880"/>
            <a:ext cx="8477280" cy="2295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293760" y="3112920"/>
            <a:ext cx="8515440" cy="3610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928800" y="1703520"/>
            <a:ext cx="78588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1071720" y="2143080"/>
            <a:ext cx="157140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1857240" y="3195720"/>
            <a:ext cx="121464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5857920" y="32036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7"/>
          <a:stretch/>
        </p:blipFill>
        <p:spPr>
          <a:xfrm>
            <a:off x="7572240" y="3214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8"/>
          <a:stretch/>
        </p:blipFill>
        <p:spPr>
          <a:xfrm>
            <a:off x="571680" y="36432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9"/>
          <a:stretch/>
        </p:blipFill>
        <p:spPr>
          <a:xfrm>
            <a:off x="4000680" y="45212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10"/>
          <a:stretch/>
        </p:blipFill>
        <p:spPr>
          <a:xfrm>
            <a:off x="5786280" y="4500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1"/>
          <a:stretch/>
        </p:blipFill>
        <p:spPr>
          <a:xfrm>
            <a:off x="1071720" y="496080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2"/>
          <a:stretch/>
        </p:blipFill>
        <p:spPr>
          <a:xfrm>
            <a:off x="2786040" y="626760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13"/>
          <a:stretch/>
        </p:blipFill>
        <p:spPr>
          <a:xfrm>
            <a:off x="4643280" y="6267600"/>
            <a:ext cx="10717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328680" y="781200"/>
            <a:ext cx="8486640" cy="59338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"/>
          <p:cNvPicPr/>
          <p:nvPr/>
        </p:nvPicPr>
        <p:blipFill>
          <a:blip r:embed="rId2"/>
          <a:stretch/>
        </p:blipFill>
        <p:spPr>
          <a:xfrm>
            <a:off x="6143760" y="2143080"/>
            <a:ext cx="1847880" cy="18576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5214960" y="1631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2214720" y="207180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7754760" y="628668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52440" y="933480"/>
            <a:ext cx="8439120" cy="5638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7643880" y="27036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428920" y="4857840"/>
            <a:ext cx="85716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4214880" y="5715000"/>
            <a:ext cx="857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276120" y="847800"/>
            <a:ext cx="8591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8:0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